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9728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439E-1395-498F-907A-60628C937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9C57-F889-480D-8D57-8926AEC3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986B-323D-4D4D-B9E6-EEF0A04EB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4468-9F5F-4F9A-A499-18D7AFC2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7A30-A5B7-463B-8714-876479DA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39C4-0C13-47DC-A47F-18BF7C9F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E048-3914-478C-818E-723B357A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5881-C60A-44EB-B92F-3F6C9451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330120"/>
            <a:ext cx="9874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4605-1723-4AEE-9272-7323C8DE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2561-A4BD-44EB-BB8E-B295634C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102F-3A38-44B1-A4BC-96BEE616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14CA-5D12-491C-A10F-0D9E9135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27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4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920960" indent="-274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7494480"/>
            <a:ext cx="34732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fld id="{1C5DCA00-A2E5-4BBB-9F4F-4F0195FC0C70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36280" y="7040520"/>
            <a:ext cx="7682040" cy="457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9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Grade Forensic Scien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22916" t="35188" r="25696" b="35184"/>
          <a:stretch/>
        </p:blipFill>
        <p:spPr>
          <a:xfrm>
            <a:off x="1371600" y="3394080"/>
            <a:ext cx="8183520" cy="3540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3" name=""/>
          <p:cNvSpPr txBox="1"/>
          <p:nvPr/>
        </p:nvSpPr>
        <p:spPr>
          <a:xfrm>
            <a:off x="365040" y="457200"/>
            <a:ext cx="6126120" cy="19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Cooper Black"/>
              </a:rPr>
              <a:t>Ridgeology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/>
          <p:nvPr/>
        </p:nvSpPr>
        <p:spPr>
          <a:xfrm>
            <a:off x="2346480" y="2239920"/>
            <a:ext cx="8321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Closer Look at Fingerpri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2400" y="7869240"/>
            <a:ext cx="6217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ftp://sequoyah.nist.gov/pub/nist_internal_reports/ir_6534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78200" y="7859880"/>
            <a:ext cx="62182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7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67760"/>
            <a:ext cx="10423440" cy="9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71468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dgeolog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 study of the uniqueness of fricti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d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ructures and their use for persona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fi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57200" y="6095880"/>
            <a:ext cx="10058040" cy="1720080"/>
            <a:chOff x="457200" y="6095880"/>
            <a:chExt cx="10058040" cy="1720080"/>
          </a:xfrm>
        </p:grpSpPr>
        <p:sp>
          <p:nvSpPr>
            <p:cNvPr id="49" name=""/>
            <p:cNvSpPr/>
            <p:nvPr/>
          </p:nvSpPr>
          <p:spPr>
            <a:xfrm>
              <a:off x="2285640" y="6291360"/>
              <a:ext cx="8229600" cy="13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he koala is one of the few mammals (other than primates) that has fingerprints. In fact, koala fingerprints are remarkably similar to human fingerprints; even with an electron microscope, it can be quite difficult to distinguish between the two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457200" y="6095880"/>
              <a:ext cx="1645560" cy="1720080"/>
              <a:chOff x="457200" y="6095880"/>
              <a:chExt cx="1645560" cy="1720080"/>
            </a:xfrm>
          </p:grpSpPr>
          <p:pic>
            <p:nvPicPr>
              <p:cNvPr id="5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48280" y="6461280"/>
                <a:ext cx="1554480" cy="135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 txBox="1"/>
              <p:nvPr/>
            </p:nvSpPr>
            <p:spPr>
              <a:xfrm>
                <a:off x="457200" y="6095880"/>
                <a:ext cx="1639800" cy="624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lba"/>
                  </a:rPr>
                  <a:t>Did you know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lba"/>
                  <a:ea typeface="Alba"/>
                </a:endParaRPr>
              </a:p>
            </p:txBody>
          </p:sp>
        </p:grpSp>
      </p:grpSp>
      <p:grpSp>
        <p:nvGrpSpPr>
          <p:cNvPr id="53" name=""/>
          <p:cNvGrpSpPr/>
          <p:nvPr/>
        </p:nvGrpSpPr>
        <p:grpSpPr>
          <a:xfrm>
            <a:off x="228600" y="2462760"/>
            <a:ext cx="10621800" cy="3631680"/>
            <a:chOff x="228600" y="2462760"/>
            <a:chExt cx="10621800" cy="3631680"/>
          </a:xfrm>
        </p:grpSpPr>
        <p:sp>
          <p:nvSpPr>
            <p:cNvPr id="54" name=""/>
            <p:cNvSpPr/>
            <p:nvPr/>
          </p:nvSpPr>
          <p:spPr>
            <a:xfrm>
              <a:off x="7726320" y="5619600"/>
              <a:ext cx="31240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 from http://www.cs.usyd.edu.au/~irena/minutia.gi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28600" y="2462760"/>
              <a:ext cx="10447200" cy="3096000"/>
              <a:chOff x="228600" y="2462760"/>
              <a:chExt cx="10447200" cy="3096000"/>
            </a:xfrm>
          </p:grpSpPr>
          <p:sp>
            <p:nvSpPr>
              <p:cNvPr id="56" name=""/>
              <p:cNvSpPr/>
              <p:nvPr/>
            </p:nvSpPr>
            <p:spPr>
              <a:xfrm>
                <a:off x="228600" y="2462760"/>
                <a:ext cx="7680240" cy="309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800" rIns="109800" tIns="54720" bIns="5472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171468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s we have learned in our first lesson, a fingerprint is made of a series of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idges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and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valleys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on the surface of the finger. The uniqueness of a fingerprint can be determined by the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attern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of ridges and valleys as well as the location, shape, and position of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inutiae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points, which are points where the ridge structure changes.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031240" y="2487600"/>
                <a:ext cx="2644560" cy="3048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8" name=""/>
          <p:cNvSpPr/>
          <p:nvPr/>
        </p:nvSpPr>
        <p:spPr>
          <a:xfrm>
            <a:off x="533520" y="1235160"/>
            <a:ext cx="1005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erm “ridgeology” was coined by Sergeant David Ashbaugh to describe the scientific evaluation process used for friction ridge identific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7859880"/>
            <a:ext cx="105156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i="1" lang="en-US" sz="1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troduction to Basic Ridgeolo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David Ashbaugh, May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228600"/>
            <a:ext cx="62485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imes New Roman"/>
              </a:rPr>
              <a:t>4. Ridge Characteristics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20140" t="22225" r="20833" b="23148"/>
          <a:stretch/>
        </p:blipFill>
        <p:spPr>
          <a:xfrm>
            <a:off x="914400" y="1219320"/>
            <a:ext cx="937260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270000"/>
            <a:ext cx="1023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Take a look at the sample fingerprint below to see several ridge characteristics that you might find during a fingerprint examinati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62120" y="1084320"/>
            <a:ext cx="9620280" cy="6840360"/>
            <a:chOff x="762120" y="1084320"/>
            <a:chExt cx="9620280" cy="684036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1857600" y="1084320"/>
              <a:ext cx="7848360" cy="684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762120" y="2209680"/>
              <a:ext cx="9620280" cy="5183280"/>
              <a:chOff x="762120" y="2209680"/>
              <a:chExt cx="9620280" cy="5183280"/>
            </a:xfrm>
          </p:grpSpPr>
          <p:sp>
            <p:nvSpPr>
              <p:cNvPr id="66" name=""/>
              <p:cNvSpPr/>
              <p:nvPr/>
            </p:nvSpPr>
            <p:spPr>
              <a:xfrm>
                <a:off x="7639200" y="2209680"/>
                <a:ext cx="2743200" cy="42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Crossover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639200" y="2971080"/>
                <a:ext cx="2743200" cy="42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Cor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639200" y="3733200"/>
                <a:ext cx="2743200" cy="42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Bifurcation (fork)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639200" y="4601520"/>
                <a:ext cx="2743200" cy="42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Ridge ending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639200" y="5363640"/>
                <a:ext cx="2743200" cy="42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Island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39200" y="6171480"/>
                <a:ext cx="2743200" cy="42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Delta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562880" y="6963840"/>
                <a:ext cx="2743200" cy="42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Por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62120" y="4928760"/>
                <a:ext cx="8380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Scar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1467000" y="4799880"/>
                <a:ext cx="609480" cy="22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104760" y="7848720"/>
            <a:ext cx="35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nx.org/content/m12574/latest/propertie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2577960" y="719280"/>
            <a:ext cx="5968800" cy="7464600"/>
            <a:chOff x="2577960" y="719280"/>
            <a:chExt cx="5968800" cy="7464600"/>
          </a:xfrm>
        </p:grpSpPr>
        <p:sp>
          <p:nvSpPr>
            <p:cNvPr id="77" name=""/>
            <p:cNvSpPr/>
            <p:nvPr/>
          </p:nvSpPr>
          <p:spPr>
            <a:xfrm>
              <a:off x="2882520" y="7907400"/>
              <a:ext cx="541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ttp://www.dkfz.de/tbi/projects/bmcv/images/iu_it246_04s_fingerprint1.jp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2577960" y="719280"/>
              <a:ext cx="5968800" cy="716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"/>
          <p:cNvSpPr/>
          <p:nvPr/>
        </p:nvSpPr>
        <p:spPr>
          <a:xfrm>
            <a:off x="380880" y="181080"/>
            <a:ext cx="102110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How many ridge characteristics can you identify in this fingerprin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71680" y="304920"/>
            <a:ext cx="95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utomated Fingerprint Identification Sys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F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143000"/>
            <a:ext cx="1021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IS is a computerized system capable of reading, classifying, matching, and storing fingerprints for criminal justice agencies. Quality latent fingerprints are entered into the AFIS for a search for possible matches against the state maintained databases for fingerprint records to  help establish the identity of unknown deceased persons or suspects in a criminal c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3816360"/>
            <a:ext cx="10667880" cy="3119400"/>
            <a:chOff x="152280" y="3816360"/>
            <a:chExt cx="10667880" cy="3119400"/>
          </a:xfrm>
        </p:grpSpPr>
        <p:grpSp>
          <p:nvGrpSpPr>
            <p:cNvPr id="83" name=""/>
            <p:cNvGrpSpPr/>
            <p:nvPr/>
          </p:nvGrpSpPr>
          <p:grpSpPr>
            <a:xfrm>
              <a:off x="152280" y="3816360"/>
              <a:ext cx="5029200" cy="3119400"/>
              <a:chOff x="152280" y="3816360"/>
              <a:chExt cx="5029200" cy="3119400"/>
            </a:xfrm>
          </p:grpSpPr>
          <p:sp>
            <p:nvSpPr>
              <p:cNvPr id="84" name=""/>
              <p:cNvSpPr/>
              <p:nvPr/>
            </p:nvSpPr>
            <p:spPr>
              <a:xfrm>
                <a:off x="152280" y="6689520"/>
                <a:ext cx="5029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http://www.fdle.state.fl.us/CrimeLab/images/fingerrint%20comparison%20for%20afis.jp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66680" y="3816360"/>
                <a:ext cx="5000400" cy="2771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6" name=""/>
            <p:cNvSpPr/>
            <p:nvPr/>
          </p:nvSpPr>
          <p:spPr>
            <a:xfrm>
              <a:off x="5257800" y="3892320"/>
              <a:ext cx="5562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n minutiae on two different prints match, these are called points of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imilari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or points of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dentifica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tice the corresponding points on the fingerprints shown at left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4920" y="22860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ngerprin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839080" y="990720"/>
            <a:ext cx="1749600" cy="1752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920" y="106668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For almost a hundred years, the primary method used to examine prints wa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int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An examiner would compare the ridges in two prints, and if enough of the ridge poin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ch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ywhere fro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el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e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there was said to be an identif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7696080"/>
            <a:ext cx="723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: http://www.abc.net.au/rn/bigidea/stories/s673661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3352680"/>
            <a:ext cx="10211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In the pas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ears, there has been a shift away from the points system to the system known as 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dgeo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aminer must determine if there are enoug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jus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i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n common to determine if two fingerprints are match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features to consider in identif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all ridg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 ridge patterns (ridge ending, bifurcation, dot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 ridge structures (width, shape, position of pore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features present in a print, such as creases, scars, wart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2590920" y="762120"/>
            <a:ext cx="5873760" cy="7086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523880" y="2209680"/>
            <a:ext cx="815364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amine the fingerprints on your “My Prints” page using a hand l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 the information presented in this lesson to identify unique patterns in the ridges as well as ridge characteristics that might be used to identify the pri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685800"/>
            <a:ext cx="2590920" cy="100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ry I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17:04:38Z</dcterms:created>
  <dc:creator>Tracy Trimpe</dc:creator>
  <dc:description/>
  <dc:language>en-US</dc:language>
  <cp:lastModifiedBy>Tracy Trimpe</cp:lastModifiedBy>
  <dcterms:modified xsi:type="dcterms:W3CDTF">2008-02-25T19:22:08Z</dcterms:modified>
  <cp:revision>74</cp:revision>
  <dc:subject/>
  <dc:title>Slide 1</dc:title>
</cp:coreProperties>
</file>